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EF68-5BA9-48FD-9846-65A996753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choi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ould you use this? Between ISPs? At ed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BFE06-9ABB-44F4-8338-158728BCD8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9E837-A5E4-40C9-9F38-F379DFDF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E832B-A5B6-4EBB-965D-5A523E5C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408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464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408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464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D638-8D61-49A4-A3BD-05CA498B4D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E6F0-6015-47A1-A83F-B8361A16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E82B9-34F1-4070-94FC-96959558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C173F-D5A5-4169-A64C-9F3D3997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0BB22-42B4-4025-9068-2C99CEFA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F689B-3859-4FF3-BF07-30153DE9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6DA2-ECB6-4FCB-8052-8C468529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915C-0E96-4AC7-8374-8327A5E5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D7D50-8CB6-48D0-802D-D8A150C6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77BA-E464-4E18-9A53-7F97EEC86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Routing (cont.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186F-4437-40D0-99FE-309373DFD8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219320"/>
            <a:ext cx="42670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looking at RIP/OSPF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-hosts connected to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 exchange messages to determin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981080"/>
            <a:ext cx="403884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562720" y="3048120"/>
            <a:ext cx="2209680" cy="1676160"/>
            <a:chOff x="5562720" y="3048120"/>
            <a:chExt cx="2209680" cy="1676160"/>
          </a:xfrm>
        </p:grpSpPr>
        <p:sp>
          <p:nvSpPr>
            <p:cNvPr id="69" name=""/>
            <p:cNvSpPr/>
            <p:nvPr/>
          </p:nvSpPr>
          <p:spPr>
            <a:xfrm>
              <a:off x="556272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2092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8880" y="3176640"/>
              <a:ext cx="11941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3768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19720" y="3950640"/>
              <a:ext cx="101484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82240" y="3756960"/>
              <a:ext cx="101484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0556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2612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0556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85000" y="2514600"/>
            <a:ext cx="26640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055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78800" y="4986360"/>
            <a:ext cx="26640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043520"/>
            <a:ext cx="26820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522600"/>
            <a:ext cx="26820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452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896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6760" y="2782800"/>
            <a:ext cx="43164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72732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11640" y="3352680"/>
            <a:ext cx="49356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3914640"/>
            <a:ext cx="4935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232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775560" y="3956040"/>
            <a:ext cx="51408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78360"/>
            <a:ext cx="49356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730560" y="4614480"/>
            <a:ext cx="17964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7372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373720" y="4005360"/>
            <a:ext cx="37152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0" y="3914640"/>
            <a:ext cx="5097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892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68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892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89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410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Click To Preview"/>
          <p:cNvPicPr/>
          <p:nvPr/>
        </p:nvPicPr>
        <p:blipFill>
          <a:blip r:embed="rId1"/>
          <a:stretch/>
        </p:blipFill>
        <p:spPr>
          <a:xfrm>
            <a:off x="6934320" y="2286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Click To Preview"/>
          <p:cNvPicPr/>
          <p:nvPr/>
        </p:nvPicPr>
        <p:blipFill>
          <a:blip r:embed="rId2"/>
          <a:stretch/>
        </p:blipFill>
        <p:spPr>
          <a:xfrm>
            <a:off x="5867280" y="2286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Click To Preview"/>
          <p:cNvPicPr/>
          <p:nvPr/>
        </p:nvPicPr>
        <p:blipFill>
          <a:blip r:embed="rId3"/>
          <a:stretch/>
        </p:blipFill>
        <p:spPr>
          <a:xfrm>
            <a:off x="7848720" y="3581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lick To Preview"/>
          <p:cNvPicPr/>
          <p:nvPr/>
        </p:nvPicPr>
        <p:blipFill>
          <a:blip r:embed="rId4"/>
          <a:stretch/>
        </p:blipFill>
        <p:spPr>
          <a:xfrm>
            <a:off x="4876920" y="3276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lick To Preview"/>
          <p:cNvPicPr/>
          <p:nvPr/>
        </p:nvPicPr>
        <p:blipFill>
          <a:blip r:embed="rId5"/>
          <a:stretch/>
        </p:blipFill>
        <p:spPr>
          <a:xfrm>
            <a:off x="48769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Click To Preview"/>
          <p:cNvPicPr/>
          <p:nvPr/>
        </p:nvPicPr>
        <p:blipFill>
          <a:blip r:embed="rId6"/>
          <a:stretch/>
        </p:blipFill>
        <p:spPr>
          <a:xfrm>
            <a:off x="6629400" y="4876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7B9D-0EFA-4644-86B1-48038271A6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114800" y="1905120"/>
            <a:ext cx="46483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3048120"/>
            <a:ext cx="2209680" cy="1676160"/>
            <a:chOff x="5638680" y="3048120"/>
            <a:chExt cx="2209680" cy="1676160"/>
          </a:xfrm>
        </p:grpSpPr>
        <p:sp>
          <p:nvSpPr>
            <p:cNvPr id="110" name=""/>
            <p:cNvSpPr/>
            <p:nvPr/>
          </p:nvSpPr>
          <p:spPr>
            <a:xfrm>
              <a:off x="563868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688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15200" y="3176640"/>
              <a:ext cx="119448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364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95680" y="3950640"/>
              <a:ext cx="101520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58200" y="3756960"/>
              <a:ext cx="101520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58188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244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8188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6096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8188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4760" y="49863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43520"/>
            <a:ext cx="26856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3522600"/>
            <a:ext cx="26856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2120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659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92720" y="2782800"/>
            <a:ext cx="4320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0364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087960" y="3352680"/>
            <a:ext cx="49392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960" y="3914640"/>
            <a:ext cx="49392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864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1160" y="3956040"/>
            <a:ext cx="51444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7960" y="3978360"/>
            <a:ext cx="49392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07240" y="4614480"/>
            <a:ext cx="17928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5004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50040" y="4005360"/>
            <a:ext cx="37116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720" y="3914640"/>
            <a:ext cx="5094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524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31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524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52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70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Click To Preview"/>
          <p:cNvPicPr/>
          <p:nvPr/>
        </p:nvPicPr>
        <p:blipFill>
          <a:blip r:embed="rId1"/>
          <a:stretch/>
        </p:blipFill>
        <p:spPr>
          <a:xfrm>
            <a:off x="5334120" y="495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5257800" y="2743200"/>
            <a:ext cx="45720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2819520"/>
            <a:ext cx="304920" cy="99036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391520" y="4191120"/>
            <a:ext cx="838080" cy="9144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0" y="2209680"/>
            <a:ext cx="1599840" cy="838440"/>
            <a:chOff x="6858000" y="2209680"/>
            <a:chExt cx="1599840" cy="838440"/>
          </a:xfrm>
        </p:grpSpPr>
        <p:sp>
          <p:nvSpPr>
            <p:cNvPr id="148" name=""/>
            <p:cNvSpPr/>
            <p:nvPr/>
          </p:nvSpPr>
          <p:spPr>
            <a:xfrm>
              <a:off x="6858000" y="2403000"/>
              <a:ext cx="6919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17200" y="2209680"/>
              <a:ext cx="8215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20320" y="2274120"/>
              <a:ext cx="8647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36320" y="2499840"/>
              <a:ext cx="8215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33560" y="2661120"/>
              <a:ext cx="735120" cy="3870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44400" y="256428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876920" y="3962520"/>
            <a:ext cx="914040" cy="609120"/>
            <a:chOff x="4876920" y="3962520"/>
            <a:chExt cx="914040" cy="609120"/>
          </a:xfrm>
        </p:grpSpPr>
        <p:sp>
          <p:nvSpPr>
            <p:cNvPr id="155" name=""/>
            <p:cNvSpPr/>
            <p:nvPr/>
          </p:nvSpPr>
          <p:spPr>
            <a:xfrm>
              <a:off x="4876920" y="4102920"/>
              <a:ext cx="39528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24880" y="3962520"/>
              <a:ext cx="46944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8040" y="4009320"/>
              <a:ext cx="49428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21520" y="4173480"/>
              <a:ext cx="4694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48720" y="4290480"/>
              <a:ext cx="4201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4220280"/>
              <a:ext cx="4201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876920" y="3276720"/>
            <a:ext cx="761760" cy="609120"/>
            <a:chOff x="4876920" y="3276720"/>
            <a:chExt cx="761760" cy="609120"/>
          </a:xfrm>
        </p:grpSpPr>
        <p:sp>
          <p:nvSpPr>
            <p:cNvPr id="162" name=""/>
            <p:cNvSpPr/>
            <p:nvPr/>
          </p:nvSpPr>
          <p:spPr>
            <a:xfrm>
              <a:off x="4876920" y="341712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0400" y="327672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44400" y="332352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47360" y="348768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3360" y="360468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7960" y="353448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>
            <a:off x="5943600" y="5257800"/>
            <a:ext cx="38088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876920" y="2590920"/>
            <a:ext cx="4572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Click To Preview"/>
          <p:cNvPicPr/>
          <p:nvPr/>
        </p:nvPicPr>
        <p:blipFill>
          <a:blip r:embed="rId2"/>
          <a:stretch/>
        </p:blipFill>
        <p:spPr>
          <a:xfrm>
            <a:off x="4343400" y="2362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Click To Preview"/>
          <p:cNvPicPr/>
          <p:nvPr/>
        </p:nvPicPr>
        <p:blipFill>
          <a:blip r:embed="rId3"/>
          <a:stretch/>
        </p:blipFill>
        <p:spPr>
          <a:xfrm>
            <a:off x="8077320" y="44956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534520" y="4038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81480" y="2133720"/>
            <a:ext cx="1599840" cy="837720"/>
            <a:chOff x="5181480" y="2133720"/>
            <a:chExt cx="1599840" cy="837720"/>
          </a:xfrm>
        </p:grpSpPr>
        <p:sp>
          <p:nvSpPr>
            <p:cNvPr id="174" name=""/>
            <p:cNvSpPr/>
            <p:nvPr/>
          </p:nvSpPr>
          <p:spPr>
            <a:xfrm>
              <a:off x="5181480" y="232704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40680" y="213372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43800" y="219780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9800" y="242388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57040" y="258480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67880" y="248832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172200" y="4800600"/>
            <a:ext cx="1599840" cy="837720"/>
            <a:chOff x="6172200" y="4800600"/>
            <a:chExt cx="1599840" cy="837720"/>
          </a:xfrm>
        </p:grpSpPr>
        <p:sp>
          <p:nvSpPr>
            <p:cNvPr id="181" name=""/>
            <p:cNvSpPr/>
            <p:nvPr/>
          </p:nvSpPr>
          <p:spPr>
            <a:xfrm>
              <a:off x="6172200" y="499392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31400" y="480060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4520" y="486468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50520" y="509076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47760" y="525168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58600" y="515520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924680" y="3657600"/>
            <a:ext cx="762120" cy="609120"/>
            <a:chOff x="7924680" y="3657600"/>
            <a:chExt cx="762120" cy="609120"/>
          </a:xfrm>
        </p:grpSpPr>
        <p:sp>
          <p:nvSpPr>
            <p:cNvPr id="188" name=""/>
            <p:cNvSpPr/>
            <p:nvPr/>
          </p:nvSpPr>
          <p:spPr>
            <a:xfrm>
              <a:off x="7924680" y="379800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48160" y="365760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92520" y="370440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95480" y="386856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51120" y="398556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65720" y="391536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352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/OSPF not very scalab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a hierarch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ISP’s aren’t equ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 EITH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640840" y="2286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77840" y="23623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31CB8-21CA-4C1A-A613-28F6E76592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208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1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-free” with global reachability 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2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onal or country-w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3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1447920"/>
            <a:ext cx="403848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952880" y="3962520"/>
            <a:ext cx="1523880" cy="990360"/>
            <a:chOff x="4952880" y="3962520"/>
            <a:chExt cx="1523880" cy="990360"/>
          </a:xfrm>
        </p:grpSpPr>
        <p:sp>
          <p:nvSpPr>
            <p:cNvPr id="202" name=""/>
            <p:cNvSpPr/>
            <p:nvPr/>
          </p:nvSpPr>
          <p:spPr>
            <a:xfrm>
              <a:off x="49528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998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82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41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061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353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257800" y="2362320"/>
            <a:ext cx="914040" cy="609120"/>
            <a:chOff x="5257800" y="2362320"/>
            <a:chExt cx="914040" cy="609120"/>
          </a:xfrm>
        </p:grpSpPr>
        <p:sp>
          <p:nvSpPr>
            <p:cNvPr id="209" name=""/>
            <p:cNvSpPr/>
            <p:nvPr/>
          </p:nvSpPr>
          <p:spPr>
            <a:xfrm>
              <a:off x="5257800" y="2502720"/>
              <a:ext cx="39528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5760" y="2362320"/>
              <a:ext cx="46944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78920" y="2409120"/>
              <a:ext cx="49428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02400" y="2573280"/>
              <a:ext cx="46944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29600" y="2690280"/>
              <a:ext cx="420120" cy="281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07120" y="2620080"/>
              <a:ext cx="420120" cy="2577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781680" y="3962520"/>
            <a:ext cx="1523880" cy="990360"/>
            <a:chOff x="6781680" y="3962520"/>
            <a:chExt cx="1523880" cy="990360"/>
          </a:xfrm>
        </p:grpSpPr>
        <p:sp>
          <p:nvSpPr>
            <p:cNvPr id="216" name=""/>
            <p:cNvSpPr/>
            <p:nvPr/>
          </p:nvSpPr>
          <p:spPr>
            <a:xfrm>
              <a:off x="67816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286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170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29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349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641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095880" y="5105520"/>
            <a:ext cx="1371240" cy="685800"/>
            <a:chOff x="6095880" y="5105520"/>
            <a:chExt cx="1371240" cy="685800"/>
          </a:xfrm>
        </p:grpSpPr>
        <p:sp>
          <p:nvSpPr>
            <p:cNvPr id="223" name=""/>
            <p:cNvSpPr/>
            <p:nvPr/>
          </p:nvSpPr>
          <p:spPr>
            <a:xfrm>
              <a:off x="6095880" y="52635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8000" y="51055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77560" y="51580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62960" y="53427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03760" y="54748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0040" y="53956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952880" y="3200400"/>
            <a:ext cx="1371240" cy="685800"/>
            <a:chOff x="4952880" y="3200400"/>
            <a:chExt cx="1371240" cy="685800"/>
          </a:xfrm>
        </p:grpSpPr>
        <p:sp>
          <p:nvSpPr>
            <p:cNvPr id="230" name=""/>
            <p:cNvSpPr/>
            <p:nvPr/>
          </p:nvSpPr>
          <p:spPr>
            <a:xfrm>
              <a:off x="4952880" y="33584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75000" y="32004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34560" y="32529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19960" y="34376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60760" y="35697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27040" y="34905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934320" y="2743200"/>
            <a:ext cx="1371240" cy="685800"/>
            <a:chOff x="6934320" y="2743200"/>
            <a:chExt cx="1371240" cy="685800"/>
          </a:xfrm>
        </p:grpSpPr>
        <p:sp>
          <p:nvSpPr>
            <p:cNvPr id="237" name=""/>
            <p:cNvSpPr/>
            <p:nvPr/>
          </p:nvSpPr>
          <p:spPr>
            <a:xfrm>
              <a:off x="6934320" y="29012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56440" y="27432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16000" y="27957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01400" y="29804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2200" y="31125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08480" y="30333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15484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0928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85960" y="28954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7616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19160" y="525780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82000" y="246384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Click To Preview"/>
          <p:cNvPicPr/>
          <p:nvPr/>
        </p:nvPicPr>
        <p:blipFill>
          <a:blip r:embed="rId1"/>
          <a:stretch/>
        </p:blipFill>
        <p:spPr>
          <a:xfrm>
            <a:off x="5334120" y="1600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Click To Preview"/>
          <p:cNvPicPr/>
          <p:nvPr/>
        </p:nvPicPr>
        <p:blipFill>
          <a:blip r:embed="rId2"/>
          <a:stretch/>
        </p:blipFill>
        <p:spPr>
          <a:xfrm>
            <a:off x="7391520" y="1600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715000" y="4952880"/>
            <a:ext cx="60948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162560" y="4952880"/>
            <a:ext cx="22860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429000"/>
            <a:ext cx="7596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095520" y="2133720"/>
            <a:ext cx="129564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2971800"/>
            <a:ext cx="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2209680"/>
            <a:ext cx="76320" cy="6098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809880"/>
            <a:ext cx="0" cy="1526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638680" y="2133360"/>
            <a:ext cx="7632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57360" y="350532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36480" y="396252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F3650-2A7F-43E0-8318-403B298F48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09480" y="1600200"/>
            <a:ext cx="77724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ransit vs. Peer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962520" y="3809880"/>
            <a:ext cx="1752480" cy="990720"/>
            <a:chOff x="3962520" y="3809880"/>
            <a:chExt cx="1752480" cy="990720"/>
          </a:xfrm>
        </p:grpSpPr>
        <p:sp>
          <p:nvSpPr>
            <p:cNvPr id="265" name=""/>
            <p:cNvSpPr/>
            <p:nvPr/>
          </p:nvSpPr>
          <p:spPr>
            <a:xfrm>
              <a:off x="3962520" y="4038480"/>
              <a:ext cx="7578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46560" y="3809880"/>
              <a:ext cx="9000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8120" y="3885840"/>
              <a:ext cx="94716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15000" y="4152600"/>
              <a:ext cx="90000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83440" y="4343400"/>
              <a:ext cx="80496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7200" y="4228920"/>
              <a:ext cx="80496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447920" y="3809880"/>
            <a:ext cx="1371240" cy="685800"/>
            <a:chOff x="1447920" y="3809880"/>
            <a:chExt cx="1371240" cy="685800"/>
          </a:xfrm>
        </p:grpSpPr>
        <p:sp>
          <p:nvSpPr>
            <p:cNvPr id="272" name=""/>
            <p:cNvSpPr/>
            <p:nvPr/>
          </p:nvSpPr>
          <p:spPr>
            <a:xfrm>
              <a:off x="1447920" y="396792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70040" y="380988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29600" y="386244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15000" y="404712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55800" y="417924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080" y="410004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858000" y="2133720"/>
            <a:ext cx="1371240" cy="685800"/>
            <a:chOff x="6858000" y="2133720"/>
            <a:chExt cx="1371240" cy="685800"/>
          </a:xfrm>
        </p:grpSpPr>
        <p:sp>
          <p:nvSpPr>
            <p:cNvPr id="279" name=""/>
            <p:cNvSpPr/>
            <p:nvPr/>
          </p:nvSpPr>
          <p:spPr>
            <a:xfrm>
              <a:off x="6858000" y="22917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80120" y="21337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39680" y="21862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25080" y="23709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65880" y="25030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32160" y="24238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394520" y="40384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08920" y="228600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85600" y="396252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Click To Preview"/>
          <p:cNvPicPr/>
          <p:nvPr/>
        </p:nvPicPr>
        <p:blipFill>
          <a:blip r:embed="rId1"/>
          <a:stretch/>
        </p:blipFill>
        <p:spPr>
          <a:xfrm>
            <a:off x="17524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Click To Preview"/>
          <p:cNvPicPr/>
          <p:nvPr/>
        </p:nvPicPr>
        <p:blipFill>
          <a:blip r:embed="rId2"/>
          <a:stretch/>
        </p:blipFill>
        <p:spPr>
          <a:xfrm>
            <a:off x="7238880" y="3505320"/>
            <a:ext cx="609840" cy="60948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3429000" y="1828800"/>
            <a:ext cx="2514600" cy="1523520"/>
            <a:chOff x="3429000" y="1828800"/>
            <a:chExt cx="2514600" cy="1523520"/>
          </a:xfrm>
        </p:grpSpPr>
        <p:sp>
          <p:nvSpPr>
            <p:cNvPr id="291" name=""/>
            <p:cNvSpPr/>
            <p:nvPr/>
          </p:nvSpPr>
          <p:spPr>
            <a:xfrm>
              <a:off x="3429000" y="2180160"/>
              <a:ext cx="108720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36520" y="1828800"/>
              <a:ext cx="129132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12440" y="1945800"/>
              <a:ext cx="135900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52280" y="2356200"/>
              <a:ext cx="129132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76720" y="2649240"/>
              <a:ext cx="1154880" cy="703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5080" y="2473200"/>
              <a:ext cx="1154880" cy="6447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162320" y="2286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Click To Preview"/>
          <p:cNvPicPr/>
          <p:nvPr/>
        </p:nvPicPr>
        <p:blipFill>
          <a:blip r:embed="rId3"/>
          <a:stretch/>
        </p:blipFill>
        <p:spPr>
          <a:xfrm>
            <a:off x="1752480" y="2133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Click To Preview"/>
          <p:cNvPicPr/>
          <p:nvPr/>
        </p:nvPicPr>
        <p:blipFill>
          <a:blip r:embed="rId4"/>
          <a:stretch/>
        </p:blipFill>
        <p:spPr>
          <a:xfrm>
            <a:off x="3962520" y="5257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Click To Preview"/>
          <p:cNvPicPr/>
          <p:nvPr/>
        </p:nvPicPr>
        <p:blipFill>
          <a:blip r:embed="rId5"/>
          <a:stretch/>
        </p:blipFill>
        <p:spPr>
          <a:xfrm>
            <a:off x="5257800" y="5257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133720" y="4495680"/>
            <a:ext cx="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133720" y="2971800"/>
            <a:ext cx="129528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4724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1843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 1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4876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895480" y="4267080"/>
            <a:ext cx="99072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9625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2895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361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790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485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481500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3429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36CB2-2CCC-4D2A-A9C8-8112B67B4C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DD8C-97EC-4BE6-8FAF-56FFBCAD95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oi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k state or distance vect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universal metric – policy deci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distance-vect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lman-Ford algorithm may not conver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link sta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 used by routers not the same –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S database too large – entire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expose policie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7418-83C1-4CE3-81FC-EDC383A63A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lution: Distance Vector with 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routing update carries the entire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ps are detected as follow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S gets route check if AS already in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es, reject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o, add self and (possibly) advertise route fur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 are local - AS chooses path, protocol ensures n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06D84-1B87-4FD4-9CC1-444CB1BE7E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connecting BGP Pe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uses TCP to connect p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fies 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periodic refresh - routes are valid until withdrawn, or the connection is l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mental upd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 control on a routing protoco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or interaction during high 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03664-DAA1-4058-8398-035C28A9C9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op-by-hop Mode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advertises to neighbors only those routes that it u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ent with the hop-by-hop Internet paradig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AS1 cannot tell AS2 to route to other AS’s in a manner different than what AS2 has chos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6CA7E-136A-4F7E-AAB3-323AFD19E0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olicy with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provides capability for enforcing various poli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cies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 of BGP: they are provided to BGP as configuration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enforces policies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oosing paths from multiple alternativ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trolling advertisement to other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FBDD-07A8-429C-971A-44042909D4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788A-1BF3-4727-ACFD-E4AC568748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xamples of BGP Polic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refuses to act as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path advertis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can become transit for some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advertise paths to some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S can favor or disfavor certain AS’s for traffic transit from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AE07-09A8-491F-BE66-6AE2B71468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Common Head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2590920"/>
            <a:ext cx="68580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3809880"/>
            <a:ext cx="3276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(2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5680" y="3809880"/>
            <a:ext cx="2057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(1 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43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37600" y="2173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0136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38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112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13440" y="2894040"/>
            <a:ext cx="53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(security and message deline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3120" y="5027760"/>
            <a:ext cx="77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: OPEN, UPDATE, NOTIFICATION, KEEP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8783-97EC-4B14-88A4-1A6C2A1ABB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Messag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nounces AS 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s hold tim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val between keep_alive or update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ero interval implies no keep_al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_al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periodically to ensure connectiv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in place of an UPDATE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for erro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ses TCP connection immediately afte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C981-7914-42E0-AFDB-375FEE4280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UPDATE Messag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withdraw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layer reachability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of reachable prefix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prefixes advertised in message have same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9E2E-6687-439C-AFA0-C895B698CA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ath Selection Criteri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ormation based on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butes + external (policy)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y consid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rence for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ence or absence of certain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dynam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748E4-7B46-43C9-AA6F-21902A02AD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OCAL PREF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19468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(within an AS) mechanism to provide relative priority among BGP ro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8108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4852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251460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4724280"/>
            <a:ext cx="5334120" cy="12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819160" y="5410080"/>
            <a:ext cx="37335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742840" y="53341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81840" y="53481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-B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66040" y="5764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0184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14760" y="510552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 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46080" y="510552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3440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26668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18720" y="312408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8168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743200" y="281952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00600" y="28195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38B95-C0D5-482B-8A80-35831548D3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LOCAL PREF – Common Us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le traffic directed to multi-homed transit custom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provider to prefer a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ering vs.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er to use peering connection, wh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customer &gt; peer &gt; provi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LOCAL PREF to ensure th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160D2-D3E5-4368-897D-5303D5D1F3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S_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traversed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362320" y="2362320"/>
            <a:ext cx="1828080" cy="1066320"/>
            <a:chOff x="2362320" y="2362320"/>
            <a:chExt cx="1828080" cy="1066320"/>
          </a:xfrm>
        </p:grpSpPr>
        <p:sp>
          <p:nvSpPr>
            <p:cNvPr id="384" name=""/>
            <p:cNvSpPr/>
            <p:nvPr/>
          </p:nvSpPr>
          <p:spPr>
            <a:xfrm>
              <a:off x="338940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232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5468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638680" y="2362320"/>
            <a:ext cx="1828080" cy="1066320"/>
            <a:chOff x="5638680" y="2362320"/>
            <a:chExt cx="1828080" cy="1066320"/>
          </a:xfrm>
        </p:grpSpPr>
        <p:sp>
          <p:nvSpPr>
            <p:cNvPr id="389" name=""/>
            <p:cNvSpPr/>
            <p:nvPr/>
          </p:nvSpPr>
          <p:spPr>
            <a:xfrm>
              <a:off x="666576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868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3868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3104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362320" y="3733920"/>
            <a:ext cx="1828080" cy="1066320"/>
            <a:chOff x="2362320" y="3733920"/>
            <a:chExt cx="1828080" cy="1066320"/>
          </a:xfrm>
        </p:grpSpPr>
        <p:sp>
          <p:nvSpPr>
            <p:cNvPr id="394" name=""/>
            <p:cNvSpPr/>
            <p:nvPr/>
          </p:nvSpPr>
          <p:spPr>
            <a:xfrm>
              <a:off x="3389400" y="37562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2320" y="37339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62320" y="42649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54680" y="42649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362320" y="5105520"/>
            <a:ext cx="1828080" cy="1066320"/>
            <a:chOff x="2362320" y="5105520"/>
            <a:chExt cx="1828080" cy="1066320"/>
          </a:xfrm>
        </p:grpSpPr>
        <p:sp>
          <p:nvSpPr>
            <p:cNvPr id="399" name=""/>
            <p:cNvSpPr/>
            <p:nvPr/>
          </p:nvSpPr>
          <p:spPr>
            <a:xfrm>
              <a:off x="3389400" y="51278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51055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56365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4680" y="56365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743200" y="5424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43200" y="4038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43200" y="2666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6668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525780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343400" y="56386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342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28954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9524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2740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63545-0B3C-4A0F-A9F8-C8BF3321CA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IDR and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2666880"/>
            <a:ext cx="213372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3886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350532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053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12120" y="2689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2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12120" y="3832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3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52240" y="3222720"/>
            <a:ext cx="14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T (provi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0.0/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21080" y="360360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96840" y="511668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should T announce to 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E45AE-646E-4245-9681-EB6E8D6A9D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p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tise all path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2: through T can reach 197.8.2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3: through T can reach 197.8.3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this does not reduce routing tables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ould like to adverti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5A9F-CB22-4DC2-A19E-C616445BC9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 Hierarch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at routing doesn’t sc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cannot be expected to have routes to every destination (or destination networ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obser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less information with increasing distance to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different approaches for rou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rea hierarc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andmark hierarchy (an alterna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99763-609E-4FC7-97A2-1FE4B741C3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ets and Sequen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77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what do we list in the rou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mitting information not accep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lead t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, X, Y: misleading, appears as 3-hop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ution: restructure AS Path attribute 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: (Sequence (T), Set (X, Y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Z wants to advertise pat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th: (Sequence (Z, T), Set (X, Y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ractice used only if paths in set have same attribu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E584-782D-445A-B4EA-A307DF24BF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Exit Discriminator (MED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external neighbors about which path into an AS to pref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transitive attribute (we will see later wh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AS choose different sca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when two AS’s connect to each other in more than one 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72FF-EC06-4767-931F-25A9F14312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R1 to use R3 over R4 lin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not compare AS40’s values to AS30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 rot="10800000">
            <a:off x="1066320" y="2819160"/>
            <a:ext cx="708660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108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4852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4876920"/>
            <a:ext cx="5334120" cy="1295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2940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2940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74284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62440" y="5916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6436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19080" y="502920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9480" y="510552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3044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1560" y="2971800"/>
            <a:ext cx="8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200040" y="35053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3200040" y="3962520"/>
            <a:ext cx="3352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1460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420E8-D27E-42CA-A7A9-D64AA6F01A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3200400"/>
            <a:ext cx="83822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3809880"/>
            <a:ext cx="457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4419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86880" y="4923000"/>
            <a:ext cx="500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1 ignores MED from IS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obeys MED from IS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ends up carrying traffic most of th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365760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426708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43000" y="39625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4648320"/>
            <a:ext cx="5790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33720" y="403848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9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 used in peering or provider/subscriber scenar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lead to unfairness: may force an ISP to carry more traffic than its partn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67A2-B580-4D77-832F-AA44351DFF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ther Attribut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 of route (IGP, EGP, oth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 of next hop router to 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9B06-3DC5-474C-8F61-200A373E96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ecision Proces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ing order of attribu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highest LOCAL-PR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shortest AS-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y MED (if routes learned from same neighb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FB89D-7104-4BC9-BF7B-1CD411D52CB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F5D9E-3F6D-4215-984E-3F5803E4D5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80880" y="4267080"/>
            <a:ext cx="8382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449568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4572000"/>
            <a:ext cx="22860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51814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0" y="4572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62320" y="54100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53760" y="46879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02720" y="4876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8280" y="4952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vs. External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9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can be used by R3 and R4 to lear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R1 and R2 learn rout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1: Inject routes in I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works for small routing ta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2: Use I-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0E7FF-1149-406D-8A63-CA6CBD6A757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messages as E-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rules about re-advertis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E-BGP can be advertised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-BGP neighbor and vice-versa, bu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one I-BGP neighb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advertised to another I-BGP neighb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on: no AS PATH within the same AS and thus danger of loop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28BA-9D35-4B36-8657-2266ED2D782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0880" y="4419720"/>
            <a:ext cx="83822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47720" y="477360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57960" y="4849920"/>
            <a:ext cx="22860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10040" y="5459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5284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8656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09840" y="4849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86160" y="5688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76160" y="50133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67040" y="5078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43360" y="56113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08760" y="62326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3171960" y="58402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3171960" y="5230440"/>
            <a:ext cx="304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2104920" y="446832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485800" y="61452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9040" y="5181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14600" y="52578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1 and R2 prefixes from R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4 prefixes from R1 and R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not tell R2 prefixes from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 can only learn via a direct connection to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 I-BGP routers must be fully connected (via TCP)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ast: E-BGP sessions usually map to physical lin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7B0F9-7811-4AC4-88C6-5E25D64CA7F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rea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e network into are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as can have nested sub-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t: no path between two sub-areas of an area can exit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erarchically address nodes in a net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tially number top-level 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-areas of area are labeled relative to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are numbered relative to the smallest containing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BD46-08EE-4831-B0C8-A1AC011A92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ink Failur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ypes of link failur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E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I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failures are treated completely different in 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2F46C-426C-43F3-A2AF-7D2525E307C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80880" y="3657600"/>
            <a:ext cx="838224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3962520"/>
            <a:ext cx="213336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95480" y="4572000"/>
            <a:ext cx="3812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962520"/>
            <a:ext cx="213372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15000" y="45720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48006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76720" y="4648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32120" y="492300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56520" y="4237200"/>
            <a:ext cx="17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0608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5420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5638320" y="48765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276720" y="48765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314240" y="4640400"/>
            <a:ext cx="235800" cy="309960"/>
            <a:chOff x="4314240" y="4640400"/>
            <a:chExt cx="235800" cy="309960"/>
          </a:xfrm>
        </p:grpSpPr>
        <p:sp>
          <p:nvSpPr>
            <p:cNvPr id="525" name=""/>
            <p:cNvSpPr/>
            <p:nvPr/>
          </p:nvSpPr>
          <p:spPr>
            <a:xfrm flipV="1">
              <a:off x="4314240" y="4645440"/>
              <a:ext cx="235800" cy="29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4321080" y="4640400"/>
              <a:ext cx="221400" cy="30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f an E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link R1-R2 goe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CP connection brea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 routes are remov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si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E2B8-8543-440C-8676-78FA6DAAE32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0880" y="3962520"/>
            <a:ext cx="83822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38280" y="4114800"/>
            <a:ext cx="381024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41911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864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048120" y="449532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4495680"/>
            <a:ext cx="10670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5356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4419360" y="4571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124080" y="45716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03720" y="431316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95252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21560" y="55324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2670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53200" y="4898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743920" y="4213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391200" y="4653000"/>
            <a:ext cx="380880" cy="370080"/>
            <a:chOff x="3391200" y="4653000"/>
            <a:chExt cx="380880" cy="370080"/>
          </a:xfrm>
        </p:grpSpPr>
        <p:sp>
          <p:nvSpPr>
            <p:cNvPr id="547" name=""/>
            <p:cNvSpPr/>
            <p:nvPr/>
          </p:nvSpPr>
          <p:spPr>
            <a:xfrm flipV="1">
              <a:off x="3391200" y="4830480"/>
              <a:ext cx="380880" cy="15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535560" y="4653000"/>
              <a:ext cx="91440" cy="370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n an I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R1-R2 down =&gt; R1 and R2 can still exchange traffi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path through R3 must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BGP and I-BGP use different conventions with respect to TCP endpo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-BGP: no multihop -- I-BGP: multihop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12C08-C6E3-4A6A-88C0-B705DEFC647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33A9-DCFA-44CE-8E0B-0DB4413D9C6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ulti-hom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has several connections to the Interne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oves reliability and performan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accommodate link fail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is sum of links to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ting policy right (MED, etc.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E9AA-1034-4998-9054-1114CDA19C7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 to Multiple Provid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6576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jor issu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stomer address spa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 and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tained independ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76DB-973B-438A-8175-B78F3202843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one IS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uses address space from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dvertises /16 aggreg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advertises /24 route to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 relays route to ISP1 and ISP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-3 use /24 rou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direc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s with traffic loa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62720" y="4114800"/>
            <a:ext cx="5331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5347-392F-4598-A5F5-FF8EB9ABE93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itfal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ggregates to a /19 at border router to reduce internal ta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still announces /1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hears /24 from ISP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packets for customer to ISP2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around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ject /24 in I-BG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6477120" y="342900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75760" y="42656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0/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029200" y="3885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DB80-FCB4-4923-87E7-3DABD02F5BA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Both ISP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nd ISP2 continue to announce aggreg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 sharing depends on traffic to two prefix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ck of reliability: if ISP1 link goes down, part of customer becomes inaccessi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may announce prefixes to both ISPs, but still problems with longest match as in case 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5156640" y="446256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518960" y="441792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4.70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2DAAF-3871-4FA0-80A7-9DCF7B476E4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dependent Address Spac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17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ers the most control, but at the cost of aggreg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need to control path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ISP’s ignore advertisements of less than /1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2ED4C-9132-487C-B33F-2F0E7D60B34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C891-D9B0-40F0-8439-86310DDFC6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2DF60-1B2F-4581-8DF6-9560926EC94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igns of Routing Instabilit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ed BGP messages at major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s of magnitude more updates than expec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lk: duplicate withdraw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less implementation of BGP – did not keep track of information passed to pe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act of few implemen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ng frequency (30/60 sec)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action with other local routing/links etc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F1C4-3A23-47EF-AA81-11D819E5776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Stor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4582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s fail to send Keep_Alive message and marked a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-BGP peers find alternate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 re-establishes peering s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send large updat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reased load causes more routers to fail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BE7E-12FB-40A4-BCC3-447E510C7D5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Dampen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s now give higher priority to BGP/Keep_Alive to avoid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ociate a penalty with each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 when route fla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lly decay penalty with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enalty reaches threshold, suppress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650AA-973B-400F-BCF8-B64433A823D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014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74600" y="2286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507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0929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B1FD-526E-4067-A81D-9E7A68CCD90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5056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3636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0088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267080" y="304776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3048120" y="4191120"/>
            <a:ext cx="7617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648320" y="4114800"/>
            <a:ext cx="8380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39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251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160" y="24526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960600" y="49528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9800" y="50292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5D533-3F1D-4761-8839-38A16844018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9672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7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3140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666880" y="281952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76920" y="281952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1588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24780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4880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19848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9692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576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A8EE-8415-44AA-88FD-D7B687064FB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80132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360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2952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113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241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724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8708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560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0716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7A09D-40B9-4610-8D02-6C306930D39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7640" y="24526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3440" y="4952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356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3443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962520" y="5029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43960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4965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2220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888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50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D4486-7674-48B4-8918-18C47BE3B69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33360" y="24382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23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7108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6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1916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280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255720" y="24382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953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468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F0A1C-EE4D-4569-9BEA-28A26A28F68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’s Area Hierarch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utonomous Syst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S)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t of routers under a single technical administration,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terior gateway protocol (I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common metrics to route packets within the AS and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xterior gateway protocol (E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route packet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AS assigned unique 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’s peer at network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42B1-47D3-4F2C-A67A-C3D283799F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90240" y="25290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21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39760" y="50436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98864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490800" y="25290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566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9488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71480" y="252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7148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2512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CF9E-784C-4B70-9A22-81239972E90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possible explore every possible path through net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-1)! Combin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between update messages (MinRouteAdver) reduces explo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ces router to process all outstanding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Internet failover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/short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6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imple replacement at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8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earch of possible op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2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replacement or search based on leng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1CFF-D693-43C1-9C23-7417466542A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80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in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to every other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sid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for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other top-level areas on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 Inter-area packets to nearest appropriate border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sult in sub-optimal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5F326-8E9E-457B-8E54-2994FED279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I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760" y="157140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common IGP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: Routing Information Protoco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v1: 1988, v2: 199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PF: Open Shortest Path Fir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988 - 199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S-IS: Intermediate system to intermediate syste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(mid to end 9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RP: 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nhanc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ior Gateway Routing Protocol (Cisco proprietary, mid-8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E82B-6678-43F6-9147-7CB5B157F1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E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-80s: E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hability protocol (no shortest pa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d not accommodate cycles (tree topolog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olved when all networks connected to NSF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: BGP introduced as routing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est version = BGP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-4 supports CI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mary objective: connectivity not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1ACA-7DBF-42E2-BD3A-95B8E9414F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Anja Feldmann</dc:creator>
  <dc:description/>
  <dc:language>en-US</dc:language>
  <cp:lastModifiedBy>anja</cp:lastModifiedBy>
  <dcterms:modified xsi:type="dcterms:W3CDTF">2004-01-08T13:00:27Z</dcterms:modified>
  <cp:revision>199</cp:revision>
  <dc:subject/>
  <dc:title>Part I: Introduction</dc:title>
</cp:coreProperties>
</file>